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CA22-B6C5-4C43-9EB4-1ED6E3F4DA3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ЭКОЛОГИИ КОММОНЕР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улированы в начале 70-х годов XX в. американским ученым Б. Коммонеро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47A5-FBE6-4ABD-A5ED-075B8B6F0A4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ервы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се связано со все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кон об экосистемах и биосфере, обращающий внимание на всеобщую связь процессов и явлений в природе. Он призван предостеречь человека от необдуманного воздействия на отдельные части экосистем, что может привести к непредвиденным последствиям, (например, осушение болот приводит к обмелению рек)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1C41-8F86-4024-AB6D-56C5CDC20AC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торо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се должно куда-то деваться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кон о хозяйственной деятельности человека, отходы от которых неизбежны, и потому необходимо думать как об уменьшении их количества, так и о последующем их использовани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D868-055E-4215-A017-24F14B9E13C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Трети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рирода "знает" лучш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кон разумного, сознательного природопользования. Нельзя забывать, что человек - тоже биологический вид, что он - часть природы, а не ее властелин. Это означает, что нельзя пытаться покорить природу, а нужно сотрудничать с ней. Пока мы не имеем полной информации о механизмах и функциях природы, а без точного знания последствий преобразования природы недопустимы никакие ее "улучшения"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81AE-E2A6-43E9-843C-8032C60411B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Четверты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Calibri"/>
              </a:rPr>
              <a:t>Ничто не дается даром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закон рационального природопользования. "...Глобальная экосистема представляет собой единое целое, в рамках которого ничего не может быть выиграно или потеряно и которая не может являться объектом всеобщего улучшения". Платить нужно энергией за дополнительную очистку отходов, удобрением - за повышение урожая, санаториями и лекарствами - за ухудшение здоровья человека и т 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ED4D-CBE3-4861-BA47-4CEC4AA63B9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653D-9AD3-4CAC-BCDF-02FE5CCE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D5ED-2E09-4B9D-8948-81D60FC4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B39C-590B-4842-8453-38AFEF12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48AF-2A6A-4271-A445-6546C003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5E00-AA5B-4285-804C-BB900F1C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5B8D-D808-4B81-9B38-8F483D47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6E94-EBE1-48AE-88E2-4199B4F9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5C36-2C21-476D-9C25-E8127095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BBCA-24B3-4713-9B79-A578CCC9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3D88-C621-4BA0-945D-198CD961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D056-F91C-4103-8684-A137BF2B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AB45-64DD-4BEC-B8AA-68E94E29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4706-B655-4121-8256-8868A226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2BEA-E539-4929-A0A8-549F915C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01F0-0E8D-48F8-B852-86FD08FA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09D8-071F-414A-9EC1-0A4F2488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23B2-83FE-462B-98D7-F1CABAF4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EAB8-3A99-487E-8A34-ADA9D3B3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227E-7375-4F37-8129-42B6AB81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A854-BC30-4363-A957-B5EA5151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456B-2B96-4D31-B4F1-BABAF89D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E895-0F11-4875-8EB3-89A89F1D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B87-A4BA-4C7A-A0E4-FEF53B85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4146-F299-477D-B1BF-0DE8452E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9E38-85FA-4E70-9D7C-2099F5FE91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35EC-BB43-4D6D-832C-BB7BA9F153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206028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ЗАКОНЫ ЭКОЛОГИИ КОММОНЕР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формулированы в начале 70-х годов XX в. американским ученым Б. Коммонером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Первый зако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69608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  </a:t>
            </a: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Все связано со всем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 закон об экосистемах и биосфере, обращающий внимание на всеобщую связь процессов и явлений в природе. Он призван предостеречь человека от необдуманного воздействия на отдельные части экосистем, что может привести к непредвиденным последствиям, (например, осушение болот приводит к обмелению рек)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Второй зако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Все должно куда-то деваться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 закон о хозяйственной деятельности человека, отходы от которых неизбежны, и потому необходимо думать как об уменьшении их количества, так и о последующем их использовани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Третий зако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i="1" lang="ru-RU" sz="2400" spc="-1" strike="noStrike">
                <a:solidFill>
                  <a:srgbClr val="ff0000"/>
                </a:solidFill>
                <a:latin typeface="Comic Sans MS"/>
              </a:rPr>
              <a:t>Природа "знает" лучше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закон разумного, сознательного природопользования. Нельзя забывать, что человек - тоже биологический вид, что он - часть природы, а не ее властелин. Это означает, что нельзя пытаться покорить природу, а нужно сотрудничать с ней. Пока мы не имеем полной информации о механизмах и функциях природы, а без точного знания последствий преобразования природы недопустимы никакие ее "улучшения"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Четвертый зако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omic Sans MS"/>
              </a:rPr>
              <a:t>Ничто не дается даром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закон рационального природопользования. "...Глобальная экосистема представляет собой единое целое, в рамках которого ничего не может быть выиграно или потеряно и которая не может являться объектом всеобщего улучшения". Платить нужно энергией за дополнительную очистку отходов, удобрением - за повышение урожая, санаториями и лекарствами - за ухудшение здоровья человека и т д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4:36:26Z</dcterms:created>
  <dc:creator>Paradise</dc:creator>
  <dc:description/>
  <dc:language>en-US</dc:language>
  <cp:lastModifiedBy>LEGION</cp:lastModifiedBy>
  <dcterms:modified xsi:type="dcterms:W3CDTF">2015-05-06T08:28:42Z</dcterms:modified>
  <cp:revision>4</cp:revision>
  <dc:subject/>
  <dc:title>ЗАКОНЫ ЭКОЛОГИИ КОММОНЕРА </dc:title>
</cp:coreProperties>
</file>